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8264-08DA-454E-BB94-F65A8C072B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0D0403FF-39F9-4305-B313-9CD7BEEC61E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217-4CC3-41C9-824A-FA7DACC3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EED-B239-4672-BA47-E6BEC8C3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D5C-D12C-4864-BD12-F64348D8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37B-09AB-40EE-89AA-019248AF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53D5-B899-4BCE-9D8D-85E183B7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8A1B-7D40-429C-9D6C-233CBFD3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5C65-27FE-4D8E-9CBF-1F261210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FA56-0D51-4E85-931E-7990727E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EAAE-1FEA-4666-A21F-F4E7E351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314D-9220-4B71-9765-2281457F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7535-7462-406F-809C-D5E9ADBE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23F-2907-4241-B702-759D8D2A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ECA2-8851-4774-A058-B8B5FFB1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DFE3-88DB-4DBE-BF57-AA2CF08E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8F0D-6409-41E2-B036-A90FC050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3DB9-56F1-48CD-BF96-3B30A47C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FDE8-4C7D-4394-9850-F6708EB4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4318-7C3A-4AE6-A439-0D48F6CF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0403D-90A6-4050-B415-312DD293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C5C1B-73E9-4D4A-BF9B-EA611CF0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363F0-E5E2-49D2-9F8B-4DAFC7C0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61F17-0335-4305-9A85-E4110ED6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E6F-090E-4FFA-85C9-BAA0B8C4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8AD9-C1AA-42DE-9137-015CFB89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5E1E0-CE8E-4368-A09F-638A50F1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1ABF-BE75-4E02-97E2-D3C94BD5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A4F1-ED11-4254-96AF-C8A8A613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D009-589C-466C-867E-73A253A9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EE06F-A035-496A-A7A1-C2A1AB30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30658-4318-4535-97B7-A2381550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713-83C5-4239-A449-872C17E3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73B-EC0F-4E91-93BF-E033A6D3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25C-3796-456C-8BB6-3D7F3D53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3EA-6176-481E-AF87-4BD0231B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E3E-6DBA-4678-8F47-F61DD08F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AA7-EDFF-49FF-8CE9-2F1FB87A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0B9E-8FB6-488A-90B7-0D82AE562B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38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ABF6-8803-4424-87D3-A599DD9E92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238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F812-BC26-4C72-9BFA-01021C46E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9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6009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360096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vilajnac001.co.yu/evropske_zastave/mali_grb-srbij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vilajnac001.co.yu/evropske_zastave/mali_grb-srbij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vilajnac001.co.yu/evropske_zastave/mali_grb-srbij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hyperlink" Target="http://cordis.europa.eu/fp6/projects.htm" TargetMode="External"/><Relationship Id="rId4" Type="http://schemas.openxmlformats.org/officeDocument/2006/relationships/hyperlink" Target="http://cordis.europa.eu/fp6/projects.htm" TargetMode="External"/><Relationship Id="rId5" Type="http://schemas.openxmlformats.org/officeDocument/2006/relationships/hyperlink" Target="http://cordis.europa.eu/fp6/projects.htm" TargetMode="External"/><Relationship Id="rId6" Type="http://schemas.openxmlformats.org/officeDocument/2006/relationships/hyperlink" Target="http://cordis.europa.eu/fp6/projects.htm" TargetMode="External"/><Relationship Id="rId7" Type="http://schemas.openxmlformats.org/officeDocument/2006/relationships/hyperlink" Target="http://cordis.europa.eu/fp6/projects.htm" TargetMode="External"/><Relationship Id="rId8" Type="http://schemas.openxmlformats.org/officeDocument/2006/relationships/hyperlink" Target="http://cordis.europa.eu/fp6/projects.htm" TargetMode="External"/><Relationship Id="rId9" Type="http://schemas.openxmlformats.org/officeDocument/2006/relationships/hyperlink" Target="http://cordis.europa.eu/fp6/projects.htm" TargetMode="External"/><Relationship Id="rId10" Type="http://schemas.openxmlformats.org/officeDocument/2006/relationships/hyperlink" Target="http://cordis.europa.eu/fp6/projects.htm" TargetMode="External"/><Relationship Id="rId11" Type="http://schemas.openxmlformats.org/officeDocument/2006/relationships/hyperlink" Target="http://cordis.europa.eu/fp6/projects.htm" TargetMode="External"/><Relationship Id="rId12" Type="http://schemas.openxmlformats.org/officeDocument/2006/relationships/hyperlink" Target="http://cordis.europa.eu/fp6/projects.htm" TargetMode="External"/><Relationship Id="rId13" Type="http://schemas.openxmlformats.org/officeDocument/2006/relationships/hyperlink" Target="http://www.cordis.lu/fp6/projects.htm" TargetMode="External"/><Relationship Id="rId14" Type="http://schemas.openxmlformats.org/officeDocument/2006/relationships/hyperlink" Target="http://www.cordis.lu/fp6/projects.htm" TargetMode="External"/><Relationship Id="rId15" Type="http://schemas.openxmlformats.org/officeDocument/2006/relationships/hyperlink" Target="http://www.cordis.lu/fp6/projects.htm" TargetMode="External"/><Relationship Id="rId16" Type="http://schemas.openxmlformats.org/officeDocument/2006/relationships/hyperlink" Target="http://cordis.europa.eu/fetch?CALLER=EN_NEWS_EVENT" TargetMode="External"/><Relationship Id="rId17" Type="http://schemas.openxmlformats.org/officeDocument/2006/relationships/hyperlink" Target="http://cordis.europa.eu/fetch?CALLER=EN_NEWS_EVENT" TargetMode="External"/><Relationship Id="rId18" Type="http://schemas.openxmlformats.org/officeDocument/2006/relationships/hyperlink" Target="http://cordis.europa.eu/fetch?CALLER=EN_NEWS_EVENT" TargetMode="External"/><Relationship Id="rId19" Type="http://schemas.openxmlformats.org/officeDocument/2006/relationships/hyperlink" Target="http://cordis.europa.eu/fetch?CALLER=EN_NEWS_EVENT" TargetMode="External"/><Relationship Id="rId20" Type="http://schemas.openxmlformats.org/officeDocument/2006/relationships/hyperlink" Target="http://cordis.europa.eu/fetch?CALLER=EN_NEWS_EVENT" TargetMode="External"/><Relationship Id="rId21" Type="http://schemas.openxmlformats.org/officeDocument/2006/relationships/hyperlink" Target="http://cordis.europa.eu/fetch?CALLER=EN_NEWS_EVENT" TargetMode="External"/><Relationship Id="rId22" Type="http://schemas.openxmlformats.org/officeDocument/2006/relationships/hyperlink" Target="http://cordis.europa.eu/fetch?CALLER=EN_NEWS_EVENT" TargetMode="External"/><Relationship Id="rId23" Type="http://schemas.openxmlformats.org/officeDocument/2006/relationships/hyperlink" Target="http://ec.europa.eu/research/headlines/archives_diary_en.cfm" TargetMode="External"/><Relationship Id="rId24" Type="http://schemas.openxmlformats.org/officeDocument/2006/relationships/hyperlink" Target="http://ec.europa.eu/research/headlines/archives_diary_en.cfm" TargetMode="External"/><Relationship Id="rId25" Type="http://schemas.openxmlformats.org/officeDocument/2006/relationships/hyperlink" Target="http://ec.europa.eu/research/headlines/archives_diary_en.cfm" TargetMode="External"/><Relationship Id="rId26" Type="http://schemas.openxmlformats.org/officeDocument/2006/relationships/hyperlink" Target="http://ec.europa.eu/research/headlines/archives_diary_en.cfm" TargetMode="External"/><Relationship Id="rId27" Type="http://schemas.openxmlformats.org/officeDocument/2006/relationships/hyperlink" Target="http://ec.europa.eu/research/headlines/archives_diary_en.cfm" TargetMode="External"/><Relationship Id="rId28" Type="http://schemas.openxmlformats.org/officeDocument/2006/relationships/hyperlink" Target="http://ec.europa.eu/research/headlines/archives_diary_en.cfm" TargetMode="External"/><Relationship Id="rId29" Type="http://schemas.openxmlformats.org/officeDocument/2006/relationships/hyperlink" Target="http://ec.europa.eu/research/headlines/archives_diary_en.cfm" TargetMode="External"/><Relationship Id="rId30" Type="http://schemas.openxmlformats.org/officeDocument/2006/relationships/hyperlink" Target="http://ec.europa.eu/research/headlines/archives_diary_en.cfm" TargetMode="External"/><Relationship Id="rId31" Type="http://schemas.openxmlformats.org/officeDocument/2006/relationships/hyperlink" Target="http://ec.europa.eu/research/conferences/index_en.cfm" TargetMode="External"/><Relationship Id="rId32" Type="http://schemas.openxmlformats.org/officeDocument/2006/relationships/hyperlink" Target="http://ec.europa.eu/research/conferences/index_en.cfm" TargetMode="External"/><Relationship Id="rId33" Type="http://schemas.openxmlformats.org/officeDocument/2006/relationships/hyperlink" Target="http://ec.europa.eu/research/conferences/index_en.cfm" TargetMode="External"/><Relationship Id="rId34" Type="http://schemas.openxmlformats.org/officeDocument/2006/relationships/hyperlink" Target="http://ec.europa.eu/research/conferences/index_en.cfm" TargetMode="External"/><Relationship Id="rId35" Type="http://schemas.openxmlformats.org/officeDocument/2006/relationships/hyperlink" Target="http://ec.europa.eu/research/conferences/index_en.cfm" TargetMode="External"/><Relationship Id="rId36" Type="http://schemas.openxmlformats.org/officeDocument/2006/relationships/hyperlink" Target="http://ec.europa.eu/research/conferences/index_en.cfm" TargetMode="External"/><Relationship Id="rId37" Type="http://schemas.openxmlformats.org/officeDocument/2006/relationships/hyperlink" Target="http://ec.europa.eu/research/conferences/index_en.cfm" TargetMode="External"/><Relationship Id="rId3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hyperlink" Target="http://www.hyperion.ie/euassociations.htm" TargetMode="External"/><Relationship Id="rId4" Type="http://schemas.openxmlformats.org/officeDocument/2006/relationships/hyperlink" Target="http://www.hyperion.ie/euassociations.htm" TargetMode="External"/><Relationship Id="rId5" Type="http://schemas.openxmlformats.org/officeDocument/2006/relationships/hyperlink" Target="http://www.hyperion.ie/euassociations.htm" TargetMode="External"/><Relationship Id="rId6" Type="http://schemas.openxmlformats.org/officeDocument/2006/relationships/hyperlink" Target="http://www.hyperion.ie/euassociations.htm" TargetMode="External"/><Relationship Id="rId7" Type="http://schemas.openxmlformats.org/officeDocument/2006/relationships/hyperlink" Target="http://www.hyperion.ie/euassociations.htm" TargetMode="External"/><Relationship Id="rId8" Type="http://schemas.openxmlformats.org/officeDocument/2006/relationships/hyperlink" Target="http://www.cost.esf.org/index.php" TargetMode="External"/><Relationship Id="rId9" Type="http://schemas.openxmlformats.org/officeDocument/2006/relationships/hyperlink" Target="http://www.cost.esf.org/index.php" TargetMode="External"/><Relationship Id="rId10" Type="http://schemas.openxmlformats.org/officeDocument/2006/relationships/hyperlink" Target="http://www.cost.esf.org/index.php" TargetMode="External"/><Relationship Id="rId11" Type="http://schemas.openxmlformats.org/officeDocument/2006/relationships/hyperlink" Target="http://cordis.europa.eu/fp7/ncp.htm" TargetMode="External"/><Relationship Id="rId12" Type="http://schemas.openxmlformats.org/officeDocument/2006/relationships/hyperlink" Target="http://cordis.europa.eu/fp7/ncp.htm" TargetMode="External"/><Relationship Id="rId13" Type="http://schemas.openxmlformats.org/officeDocument/2006/relationships/hyperlink" Target="http://cordis.europa.eu/fp7/ncp.htm" TargetMode="External"/><Relationship Id="rId14" Type="http://schemas.openxmlformats.org/officeDocument/2006/relationships/hyperlink" Target="http://cordis.europa.eu/fp7/ncp.htm" TargetMode="External"/><Relationship Id="rId15" Type="http://schemas.openxmlformats.org/officeDocument/2006/relationships/hyperlink" Target="http://cordis.europa.eu/fp7/ncp.htm" TargetMode="External"/><Relationship Id="rId16" Type="http://schemas.openxmlformats.org/officeDocument/2006/relationships/hyperlink" Target="https://cordis.europa.eu/emmfp7/index.cfm?fuseaction=wel.welcome" TargetMode="External"/><Relationship Id="rId1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hyperlink" Target="http://cordis.europa.eu/infrastructures/projects.htm" TargetMode="External"/><Relationship Id="rId4" Type="http://schemas.openxmlformats.org/officeDocument/2006/relationships/hyperlink" Target="http://cordis.europa.eu/infrastructures/projects.htm" TargetMode="External"/><Relationship Id="rId5" Type="http://schemas.openxmlformats.org/officeDocument/2006/relationships/hyperlink" Target="http://cordis.europa.eu/infrastructures/projects.htm" TargetMode="External"/><Relationship Id="rId6" Type="http://schemas.openxmlformats.org/officeDocument/2006/relationships/hyperlink" Target="http://cordis.europa.eu/infrastructures/projects.htm" TargetMode="External"/><Relationship Id="rId7" Type="http://schemas.openxmlformats.org/officeDocument/2006/relationships/hyperlink" Target="http://cordis.europa.eu/infrastructures/projects.htm" TargetMode="External"/><Relationship Id="rId8" Type="http://schemas.openxmlformats.org/officeDocument/2006/relationships/hyperlink" Target="http://cordis.europa.eu/infrastructures/projects.htm" TargetMode="External"/><Relationship Id="rId9" Type="http://schemas.openxmlformats.org/officeDocument/2006/relationships/hyperlink" Target="http://cordis.europa.eu/infrastructures/projects.htm" TargetMode="External"/><Relationship Id="rId10" Type="http://schemas.openxmlformats.org/officeDocument/2006/relationships/hyperlink" Target="http://cordis.europa.eu/infrastructures/projects.htm" TargetMode="External"/><Relationship Id="rId11" Type="http://schemas.openxmlformats.org/officeDocument/2006/relationships/hyperlink" Target="http://www.cordis.lu/fp6/projects.htm" TargetMode="External"/><Relationship Id="rId12" Type="http://schemas.openxmlformats.org/officeDocument/2006/relationships/hyperlink" Target="http://www.cordis.lu/fp6/projects.htm" TargetMode="External"/><Relationship Id="rId13" Type="http://schemas.openxmlformats.org/officeDocument/2006/relationships/hyperlink" Target="http://www.cordis.lu/fp6/projects.htm" TargetMode="External"/><Relationship Id="rId14" Type="http://schemas.openxmlformats.org/officeDocument/2006/relationships/hyperlink" Target="http://cordis.europa.eu/mc-opportunities/index.cfm?fuseaction=dataForm.doSearch" TargetMode="External"/><Relationship Id="rId15" Type="http://schemas.openxmlformats.org/officeDocument/2006/relationships/hyperlink" Target="http://cordis.europa.eu/mc-opportunities/index.cfm?fuseaction=dataForm.doSearch" TargetMode="External"/><Relationship Id="rId16" Type="http://schemas.openxmlformats.org/officeDocument/2006/relationships/hyperlink" Target="http://cordis.europa.eu/mc-opportunities/index.cfm?fuseaction=dataForm.doSearch" TargetMode="External"/><Relationship Id="rId17" Type="http://schemas.openxmlformats.org/officeDocument/2006/relationships/hyperlink" Target="http://cordis.europa.eu/mc-opportunities/index.cfm?fuseaction=dataForm.doSearch" TargetMode="External"/><Relationship Id="rId18" Type="http://schemas.openxmlformats.org/officeDocument/2006/relationships/hyperlink" Target="http://cordis.europa.eu/mc-opportunities/index.cfm?fuseaction=dataForm.doSearch" TargetMode="External"/><Relationship Id="rId19" Type="http://schemas.openxmlformats.org/officeDocument/2006/relationships/hyperlink" Target="http://cordis.europa.eu/mc-opportunities/index.cfm?fuseaction=dataForm.doSearch" TargetMode="External"/><Relationship Id="rId20" Type="http://schemas.openxmlformats.org/officeDocument/2006/relationships/hyperlink" Target="http://cordis.europa.eu/mc-opportunities/index.cfm?fuseaction=dataForm.doSearch" TargetMode="External"/><Relationship Id="rId21" Type="http://schemas.openxmlformats.org/officeDocument/2006/relationships/hyperlink" Target="http://cordis.europa.eu/mc-opportunities/index.cfm?fuseaction=dataForm.doSearch" TargetMode="External"/><Relationship Id="rId22" Type="http://schemas.openxmlformats.org/officeDocument/2006/relationships/hyperlink" Target="http://cordis.europa.eu/mc-opportunities/index.cfm?fuseaction=dataForm.doSearch" TargetMode="External"/><Relationship Id="rId23" Type="http://schemas.openxmlformats.org/officeDocument/2006/relationships/hyperlink" Target="http://cordis.europa.eu/mc-opportunities/index.cfm?fuseaction=dataForm.doSearch" TargetMode="External"/><Relationship Id="rId24" Type="http://schemas.openxmlformats.org/officeDocument/2006/relationships/hyperlink" Target="http://cordis.europa.eu/mc-opportunities/index.cfm?fuseaction=dataForm.doSearch" TargetMode="External"/><Relationship Id="rId25" Type="http://schemas.openxmlformats.org/officeDocument/2006/relationships/hyperlink" Target="http://europa.eu.int/eracareers/" TargetMode="External"/><Relationship Id="rId26" Type="http://schemas.openxmlformats.org/officeDocument/2006/relationships/hyperlink" Target="http://europa.eu.int/eracareers/" TargetMode="External"/><Relationship Id="rId27" Type="http://schemas.openxmlformats.org/officeDocument/2006/relationships/hyperlink" Target="http://europa.eu.int/eracareers/" TargetMode="External"/><Relationship Id="rId28" Type="http://schemas.openxmlformats.org/officeDocument/2006/relationships/hyperlink" Target="http://europa.eu.int/eracareers/" TargetMode="External"/><Relationship Id="rId29" Type="http://schemas.openxmlformats.org/officeDocument/2006/relationships/hyperlink" Target="http://europa.eu.int/eracareers/" TargetMode="External"/><Relationship Id="rId30" Type="http://schemas.openxmlformats.org/officeDocument/2006/relationships/hyperlink" Target="http://cordis.europa.eu/mc-opportunities/index.cfm?fuseaction=dataForm.doSearchEvt" TargetMode="External"/><Relationship Id="rId31" Type="http://schemas.openxmlformats.org/officeDocument/2006/relationships/hyperlink" Target="http://cordis.europa.eu/mc-opportunities/index.cfm?fuseaction=dataForm.doSearchEvt" TargetMode="External"/><Relationship Id="rId32" Type="http://schemas.openxmlformats.org/officeDocument/2006/relationships/hyperlink" Target="http://cordis.europa.eu/mc-opportunities/index.cfm?fuseaction=dataForm.doSearchEvt" TargetMode="External"/><Relationship Id="rId33" Type="http://schemas.openxmlformats.org/officeDocument/2006/relationships/hyperlink" Target="http://cordis.europa.eu/mc-opportunities/index.cfm?fuseaction=dataForm.doSearchEvt" TargetMode="External"/><Relationship Id="rId34" Type="http://schemas.openxmlformats.org/officeDocument/2006/relationships/hyperlink" Target="http://cordis.europa.eu/mc-opportunities/index.cfm?fuseaction=dataForm.doSearchEvt" TargetMode="External"/><Relationship Id="rId35" Type="http://schemas.openxmlformats.org/officeDocument/2006/relationships/hyperlink" Target="http://cordis.europa.eu/mc-opportunities/index.cfm?fuseaction=dataForm.doSearchEvt" TargetMode="External"/><Relationship Id="rId36" Type="http://schemas.openxmlformats.org/officeDocument/2006/relationships/hyperlink" Target="http://cordis.europa.eu/mc-opportunities/index.cfm?fuseaction=dataForm.doSearchEvt" TargetMode="External"/><Relationship Id="rId37" Type="http://schemas.openxmlformats.org/officeDocument/2006/relationships/hyperlink" Target="http://cordis.europa.eu/mc-opportunities/index.cfm?fuseaction=dataForm.doSearchEvt" TargetMode="External"/><Relationship Id="rId38" Type="http://schemas.openxmlformats.org/officeDocument/2006/relationships/hyperlink" Target="http://cordis.europa.eu/mc-opportunities/index.cfm?fuseaction=dataForm.doSearchEvt" TargetMode="External"/><Relationship Id="rId39" Type="http://schemas.openxmlformats.org/officeDocument/2006/relationships/hyperlink" Target="http://cordis.europa.eu/mc-opportunities/index.cfm?fuseaction=dataForm.doSearchEvt" TargetMode="External"/><Relationship Id="rId40" Type="http://schemas.openxmlformats.org/officeDocument/2006/relationships/hyperlink" Target="http://cordis.europa.eu/mc-opportunities/index.cfm?fuseaction=dataForm.doSearchEvt" TargetMode="External"/><Relationship Id="rId41" Type="http://schemas.openxmlformats.org/officeDocument/2006/relationships/hyperlink" Target="http://cordis.europa.eu/news/en/home.html" TargetMode="External"/><Relationship Id="rId42" Type="http://schemas.openxmlformats.org/officeDocument/2006/relationships/hyperlink" Target="http://cordis.europa.eu/news/en/home.html" TargetMode="External"/><Relationship Id="rId43" Type="http://schemas.openxmlformats.org/officeDocument/2006/relationships/hyperlink" Target="http://cordis.europa.eu/news/en/home.html" TargetMode="External"/><Relationship Id="rId44" Type="http://schemas.openxmlformats.org/officeDocument/2006/relationships/hyperlink" Target="http://cordis.europa.eu/news/en/home.html" TargetMode="External"/><Relationship Id="rId45" Type="http://schemas.openxmlformats.org/officeDocument/2006/relationships/hyperlink" Target="http://cordis.europa.eu/news/en/home.html" TargetMode="External"/><Relationship Id="rId46" Type="http://schemas.openxmlformats.org/officeDocument/2006/relationships/hyperlink" Target="http://cordis.europa.eu/news/en/home.html" TargetMode="External"/><Relationship Id="rId47" Type="http://schemas.openxmlformats.org/officeDocument/2006/relationships/hyperlink" Target="http://cordis.europa.eu/news/en/home.html" TargetMode="External"/><Relationship Id="rId4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hyperlink" Target="http://cordis.europa.eu/partners-service/" TargetMode="External"/><Relationship Id="rId4" Type="http://schemas.openxmlformats.org/officeDocument/2006/relationships/hyperlink" Target="http://cordis.europa.eu/partners-service/" TargetMode="External"/><Relationship Id="rId5" Type="http://schemas.openxmlformats.org/officeDocument/2006/relationships/hyperlink" Target="http://cordis.europa.eu/partners-service/" TargetMode="External"/><Relationship Id="rId6" Type="http://schemas.openxmlformats.org/officeDocument/2006/relationships/hyperlink" Target="http://cordis.europa.eu/partners-service/" TargetMode="External"/><Relationship Id="rId7" Type="http://schemas.openxmlformats.org/officeDocument/2006/relationships/hyperlink" Target="http://cordis.europa.eu/partners-service/" TargetMode="External"/><Relationship Id="rId8" Type="http://schemas.openxmlformats.org/officeDocument/2006/relationships/hyperlink" Target="http://cordis.europa.eu/partners-service/" TargetMode="External"/><Relationship Id="rId9" Type="http://schemas.openxmlformats.org/officeDocument/2006/relationships/hyperlink" Target="http://www.iglortd.org/services/partner.html.net" TargetMode="External"/><Relationship Id="rId10" Type="http://schemas.openxmlformats.org/officeDocument/2006/relationships/hyperlink" Target="http://www.iglortd.org/services/partner.html.net" TargetMode="External"/><Relationship Id="rId11" Type="http://schemas.openxmlformats.org/officeDocument/2006/relationships/hyperlink" Target="http://www.iglortd.org/services/partner.html.net" TargetMode="External"/><Relationship Id="rId12" Type="http://schemas.openxmlformats.org/officeDocument/2006/relationships/hyperlink" Target="http://www.ideal-ist.net/" TargetMode="External"/><Relationship Id="rId13" Type="http://schemas.openxmlformats.org/officeDocument/2006/relationships/hyperlink" Target="http://www.ideal-ist.net/" TargetMode="External"/><Relationship Id="rId14" Type="http://schemas.openxmlformats.org/officeDocument/2006/relationships/hyperlink" Target="http://www.ideal-ist.net/" TargetMode="External"/><Relationship Id="rId15" Type="http://schemas.openxmlformats.org/officeDocument/2006/relationships/hyperlink" Target="http://www.hagridproject.net/index.php" TargetMode="External"/><Relationship Id="rId16" Type="http://schemas.openxmlformats.org/officeDocument/2006/relationships/hyperlink" Target="http://www.hagridproject.net/index.php" TargetMode="External"/><Relationship Id="rId17" Type="http://schemas.openxmlformats.org/officeDocument/2006/relationships/hyperlink" Target="http://www.hagridproject.net/index.php" TargetMode="External"/><Relationship Id="rId18" Type="http://schemas.openxmlformats.org/officeDocument/2006/relationships/hyperlink" Target="http://www.hagridproject.net/index.php" TargetMode="Externa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vilajnac001.co.yu/evropske_zastave/mali_grb-srbij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hyperlink" Target="http://www.svilajnac001.co.yu/evropske_zastave/mali_grb-srbija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vilajnac001.co.yu/evropske_zastave/mali_grb-srbij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307360" y="556272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1770120"/>
            <a:ext cx="807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ultative Bureau for International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istry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9960" y="3992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00"/>
                </a:solidFill>
                <a:latin typeface="Arial"/>
              </a:rPr>
              <a:t>Steve Quarri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b0b0b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ac021a"/>
                </a:solidFill>
                <a:latin typeface="Arial"/>
              </a:rPr>
              <a:t>Jelena Koli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Ideas- Frontie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 reinforce excellence, dynamism and creativity in European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Arial"/>
              </a:rPr>
              <a:t>Starting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Arial"/>
              </a:rPr>
              <a:t>Advanced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05920" y="22860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People – Human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ivity 1: Initial Training of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ivity 2: “Life-long Training and Career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velopment”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ivity 3: “Industry-Academia Partnerships and Pathway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ivity 4: “International Dimension”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05920" y="22860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Capa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search Infra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search for the benefit of S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gions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search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cience i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herent Development of Research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nternational 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22860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Work Programm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Nomencla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c714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heme 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(Heal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c7140"/>
              </a:buClr>
              <a:buFont typeface="Wingdings 3" charset="2"/>
              <a:buChar char="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Activity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(correspond to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“bullet points” of the W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fc7140"/>
              </a:buClr>
              <a:buFont typeface="Wingdings 3" charset="2"/>
              <a:buChar char="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Area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(should be stable in the course of the FP7, with a certain dose of flexi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fc7140"/>
              </a:buClr>
              <a:buFont typeface="Wingdings 3" charset="2"/>
              <a:buChar char="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OPIC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(open for proposals in the calls, only for the year in ques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en 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29600" y="1522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8431200" cy="5715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66680" y="3048120"/>
            <a:ext cx="144792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2082960"/>
            <a:ext cx="3632400" cy="444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Open c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P7-PEOPLE-ERG-2008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deadline: 8 October 2008 at 17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FP7-PEOPLE-IEF-2008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deadline: 19 August 2008 at 17h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FP7-PEOPLE-IIF-2008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deadline: 19 August 2008 at 17h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FP7-PEOPLE-IOF-2008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deadline: 19 August 2008 at 17h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FP7-PEOPLE-IRG-2008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deadline: 8 October 2008 at 17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FP7-PEOPLE-ITN-2008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deadline: 2 September 2008 at 17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http://cordis.europa.eu/fp7/people/home_e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2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Serbian NC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229600" y="1522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8153280" cy="5639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638680" y="5892840"/>
            <a:ext cx="1447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2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Serbian NC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229600" y="1522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09480" y="1152360"/>
            <a:ext cx="80773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00280" y="2335320"/>
            <a:ext cx="75438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ience is an international su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ink of it like “inbreeding depression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3360" y="5587920"/>
            <a:ext cx="760680" cy="1219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00280" y="1143000"/>
            <a:ext cx="75438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should you be interested in applying for an FP7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0280" y="3527280"/>
            <a:ext cx="75438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P7 is a </a:t>
            </a:r>
            <a:r>
              <a:rPr b="1" lang="en-GB" sz="2400" spc="-1" strike="noStrike">
                <a:solidFill>
                  <a:srgbClr val="ac021a"/>
                </a:solidFill>
                <a:latin typeface="Arial"/>
              </a:rPr>
              <a:t>hu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ource of money for resear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ver €32 billion just for collaborative projec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0280" y="4721400"/>
            <a:ext cx="75438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P7 is the best opportunity for a Serbian scientist 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 a research care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0760" y="561348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60240" y="1298520"/>
            <a:ext cx="78487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what are the challenges like for you to take part in a FP7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0240" y="2530440"/>
            <a:ext cx="78487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ant to write your own collaborative research project proposal, the challenges are very l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0240" y="376380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you are a beginner you don’t start t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0240" y="4632480"/>
            <a:ext cx="78487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7 provides many much easier opportunities for you to get onto the first step of the FP7 lad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5160" y="5587920"/>
            <a:ext cx="760320" cy="1219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25480" y="2425680"/>
            <a:ext cx="7407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onsultativni biro je ekstenzija rada Sektora za medjunarodnu saradnju Ministarstva nauke koja je proistekla iz želje da se pojača i pospeši prisustvo srpskih naučnika u medjunarodnim projektima, posebno u FP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0760" y="561348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09480" y="178740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a European Research Infra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35728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an existing network such as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06404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CSA (support - RegPot) to improve your capa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20236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a FP research consortium as a WP l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60948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’s the beginner’s ‘Road map’ to FP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292572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Fellowship in a Marie Curie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49560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e an international workshop/conference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463392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 a FP research consortium as a junior part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772240"/>
            <a:ext cx="78487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your own FP collaborative research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206360"/>
            <a:ext cx="784872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c021a"/>
                </a:solidFill>
                <a:latin typeface="Arial"/>
              </a:rPr>
              <a:t>You start by getting yourself known and net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0760" y="5587920"/>
            <a:ext cx="760320" cy="1219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38080" y="304920"/>
            <a:ext cx="7407360" cy="825480"/>
          </a:xfrm>
          <a:prstGeom prst="rect">
            <a:avLst/>
          </a:prstGeom>
          <a:solidFill>
            <a:srgbClr val="ffffff">
              <a:alpha val="61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important number in FP7 is 5 [petica]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need to target petica for every evaluation s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74720" y="1257480"/>
            <a:ext cx="7543440" cy="5562000"/>
            <a:chOff x="774720" y="1257480"/>
            <a:chExt cx="7543440" cy="5562000"/>
          </a:xfrm>
        </p:grpSpPr>
        <p:pic>
          <p:nvPicPr>
            <p:cNvPr id="219" name="" descr=""/>
            <p:cNvPicPr/>
            <p:nvPr/>
          </p:nvPicPr>
          <p:blipFill>
            <a:blip r:embed="rId3"/>
            <a:srcRect l="0" t="0" r="0" b="13901"/>
            <a:stretch/>
          </p:blipFill>
          <p:spPr>
            <a:xfrm>
              <a:off x="774720" y="1257480"/>
              <a:ext cx="7543440" cy="539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4"/>
            <a:srcRect l="0" t="92672" r="0" b="0"/>
            <a:stretch/>
          </p:blipFill>
          <p:spPr>
            <a:xfrm>
              <a:off x="774720" y="6361200"/>
              <a:ext cx="754344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1013040" y="6373800"/>
            <a:ext cx="7055280" cy="371520"/>
            <a:chOff x="1013040" y="6373800"/>
            <a:chExt cx="7055280" cy="371520"/>
          </a:xfrm>
        </p:grpSpPr>
        <p:sp>
          <p:nvSpPr>
            <p:cNvPr id="222" name=""/>
            <p:cNvSpPr/>
            <p:nvPr/>
          </p:nvSpPr>
          <p:spPr>
            <a:xfrm>
              <a:off x="1013040" y="6373800"/>
              <a:ext cx="209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a0000"/>
                  </a:solidFill>
                  <a:latin typeface="Arial"/>
                </a:rPr>
                <a:t>Maximum scor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97400" y="6377040"/>
              <a:ext cx="209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a0000"/>
                  </a:solidFill>
                  <a:latin typeface="Arial"/>
                </a:rPr>
                <a:t>Maximum scor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72040" y="6377040"/>
              <a:ext cx="209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a0000"/>
                  </a:solidFill>
                  <a:latin typeface="Arial"/>
                </a:rPr>
                <a:t>Maximum scor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927000" y="2705040"/>
            <a:ext cx="7086600" cy="2806920"/>
            <a:chOff x="927000" y="2705040"/>
            <a:chExt cx="7086600" cy="2806920"/>
          </a:xfrm>
        </p:grpSpPr>
        <p:sp>
          <p:nvSpPr>
            <p:cNvPr id="226" name=""/>
            <p:cNvSpPr/>
            <p:nvPr/>
          </p:nvSpPr>
          <p:spPr>
            <a:xfrm>
              <a:off x="1778040" y="2933640"/>
              <a:ext cx="1295280" cy="381240"/>
            </a:xfrm>
            <a:prstGeom prst="ellipse">
              <a:avLst/>
            </a:prstGeom>
            <a:noFill/>
            <a:ln w="38160">
              <a:solidFill>
                <a:srgbClr val="d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7000" y="4152960"/>
              <a:ext cx="1028880" cy="380880"/>
            </a:xfrm>
            <a:prstGeom prst="ellipse">
              <a:avLst/>
            </a:prstGeom>
            <a:noFill/>
            <a:ln w="38160">
              <a:solidFill>
                <a:srgbClr val="d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39600" y="4546440"/>
              <a:ext cx="1028880" cy="381240"/>
            </a:xfrm>
            <a:prstGeom prst="ellipse">
              <a:avLst/>
            </a:prstGeom>
            <a:noFill/>
            <a:ln w="38160">
              <a:solidFill>
                <a:srgbClr val="d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16040" y="4546440"/>
              <a:ext cx="1028880" cy="381240"/>
            </a:xfrm>
            <a:prstGeom prst="ellipse">
              <a:avLst/>
            </a:prstGeom>
            <a:noFill/>
            <a:ln w="38160">
              <a:solidFill>
                <a:srgbClr val="d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51160" y="2705040"/>
              <a:ext cx="1028520" cy="381240"/>
            </a:xfrm>
            <a:prstGeom prst="ellipse">
              <a:avLst/>
            </a:prstGeom>
            <a:noFill/>
            <a:ln w="38160">
              <a:solidFill>
                <a:srgbClr val="d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70600" y="5130720"/>
              <a:ext cx="1143000" cy="381240"/>
            </a:xfrm>
            <a:prstGeom prst="ellipse">
              <a:avLst/>
            </a:prstGeom>
            <a:noFill/>
            <a:ln w="38160">
              <a:solidFill>
                <a:srgbClr val="d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949760" y="1773360"/>
            <a:ext cx="47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0b0b"/>
                </a:solidFill>
                <a:latin typeface="Lucida Grande"/>
              </a:rPr>
              <a:t>and Collaborative project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43080" y="2146320"/>
            <a:ext cx="842004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director of an office aiming to help Serbian scientists write successful research proposals for FP7, I have to know where their project idea is starting f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3080" y="3882960"/>
            <a:ext cx="842004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need to know whether it is good enough quality to succeed in FP7. So, I need to have the wisdom of an Irish cowhe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0760" y="5587920"/>
            <a:ext cx="760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49160" y="2479680"/>
            <a:ext cx="7620120" cy="825480"/>
          </a:xfrm>
          <a:prstGeom prst="rect">
            <a:avLst/>
          </a:prstGeom>
          <a:solidFill>
            <a:srgbClr val="ff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here is the truth about preparing a successful research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9160" y="1397160"/>
            <a:ext cx="76201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, my young man, to be sure, if I were you, I wouldn’t be starting from here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9160" y="4645080"/>
            <a:ext cx="76201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at’s part of the reason for our visit today - for you to convince me that you do good quality re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49160" y="3562200"/>
            <a:ext cx="76201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’t write good quality research proposals if you’re not already doing good quality resear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3360" y="5587920"/>
            <a:ext cx="760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49160" y="2590920"/>
            <a:ext cx="7620120" cy="265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your idea good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your consortium of partners good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t fit into the needs of the c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you got a good management pl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your project have an impa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you got a realistic bud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your project going to answer five key questions?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9160" y="1397160"/>
            <a:ext cx="76201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all be happy to help you at every stage of converting your idea into a successful propos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3360" y="5587920"/>
            <a:ext cx="760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0760" y="561348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152388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need to answer these 5 questions in your propos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249640"/>
            <a:ext cx="8229600" cy="228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bother with this research? (what knowledge gap are you trying to fil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a European priority? (could it be funded nationall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knowledge already available? (state-of-the-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now the right time? (why wasn’t it done befor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s? (are we the best people to do this work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80060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s to the questions should come in the first 10 lin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0760" y="561348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57200" y="136836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iends and scientific colleag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76212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eria to use to select your partn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97640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utation: scientific excellence in a niche (capabil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501156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ustrial partners, especially S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258300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s available to deliver (capac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319104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essional and timely delivery of documents,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9728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standing and respect of bureaucratic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440532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ingness to work in a team and sha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61960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 personality - easy to get on with during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0760" y="561348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82760" y="1298520"/>
            <a:ext cx="8204040" cy="4712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who won Proj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your area in FP7 (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eu/search/index.cfm?fuseaction=proj.advSear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who received contracts in your scientific area in FP6 (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.eu/fp6/projects.ht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 Existing Networks: Search for 'Coordination Actions' on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lu/fp6/project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badi MT Condensed Extra Bold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Conferences that have been funded in your area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eu/fetch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?CALLER=EN_NEWS_EV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/ec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eu/research/headlines/archives_diary_en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cf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/ec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eu/research/conferences/index_en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.c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54936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start your international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760" y="561348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35040" y="1488960"/>
            <a:ext cx="7848720" cy="3476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 the Relevant EU Association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yperion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e/euassociation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h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 an existing COST Actions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cost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sf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org/index.ph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ct National Contact Point for your area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eu/fp7/ncp.h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to become an Expert Evaluator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s://cordis.europa.eu/emmfp7/index.cfm?fuseaction=wel.wel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0760" y="561348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57200" y="736560"/>
            <a:ext cx="8229600" cy="597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sit a European Research Infrastructure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eu/infrastructures/project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FP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 an Existing Network: Coordination Action(FP6)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lu/fp6/projects.ht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 Marie Curie Host Site seeking fellows on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u/mc-opportunities/index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cfm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?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fuseaction=dataForm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.do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 Marie Curie Host Site on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//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eu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.int/eracareer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a Marie Curie Conference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eu/mc-opportunities/index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cfm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?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fuseaction=dataForm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.doSearchEv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Cordis News for Future Conferences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eu/news/en/home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15228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o start getting funding with Framework Program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3360" y="5587920"/>
            <a:ext cx="760680" cy="1219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00280" y="1050840"/>
            <a:ext cx="742932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, what is the bureau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280" y="2187720"/>
            <a:ext cx="7429320" cy="346212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have an idea you would like to convert into a research propo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information on what opportunities there may be for your science in FP7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to know what are the challenges of taking part in an international research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to know whether your current research programme is suitable for an international collaborativ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0760" y="5613480"/>
            <a:ext cx="760320" cy="12189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57200" y="2152800"/>
            <a:ext cx="8229600" cy="311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DIS Partner Search Service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/cordis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uropa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eu/partners-servic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GLO Informal group of RTD Liaison Offices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iglortd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org/services/partne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T Partner search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deal-ist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ance in Joining ICT Projects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agridproject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.net/index.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295280"/>
            <a:ext cx="8229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services available for beginn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3360" y="5587920"/>
            <a:ext cx="76068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00280" y="1295280"/>
            <a:ext cx="7429320" cy="426996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help with writing an FP7 research propo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have an FP6 or FP7 proposal that did not succeed that you would like us to assess for you to advise you on how to succeed next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us to send you any information on the FP7 The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help to find partners for a consortium you are putting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us to send you our partner profile form to fill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3360" y="5587920"/>
            <a:ext cx="760680" cy="1219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12880" y="1317600"/>
            <a:ext cx="7429320" cy="2364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us to add your name to our distribution list for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have any suggestions on how we can help you with your resea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just want to chat about improving your research ski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5480" y="4343400"/>
            <a:ext cx="74325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sk about any of these questions just call Steve Quarrie (-11 3035047) or Jelena Kolić (-11 3398830) or email us at info.biro@mntr.sr.gov.y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55680" y="2892600"/>
            <a:ext cx="835668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some information on what is on offer in FP7 for you at the moment and what might be of interest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0760" y="5587920"/>
            <a:ext cx="760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P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structure, work programmes, calls </a:t>
            </a:r>
            <a:r>
              <a:rPr b="1" lang="sr-Latn-CS" sz="32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Arial"/>
              </a:rPr>
              <a:t>Jelena Kol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Ministarstvo na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nsultativni biro 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za međunarodne proj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9600" y="22860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05080" y="2076480"/>
            <a:ext cx="7129440" cy="3486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20120" y="5562720"/>
            <a:ext cx="1066680" cy="9428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FP -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29600" y="45720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171360" y="1101600"/>
            <a:ext cx="777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10 Thematic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od, Agriculture, Fisheries and 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formation and Communication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anosciences, Nanotechnologies, Materials and new Production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vironment (including Climate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ransport (including Aeronau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cio-Economic Sciences and the Huma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755640" y="333360"/>
            <a:ext cx="7956720" cy="647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peration – Collaborativ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8193600" y="118584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333399"/>
                </a:solidFill>
                <a:latin typeface="Arial"/>
              </a:rPr>
              <a:t>€ </a:t>
            </a:r>
            <a:r>
              <a:rPr b="1" lang="fr-BE" sz="18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8163000" y="204624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1.9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8170560" y="16178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6.05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8150760" y="24764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9.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8165160" y="29113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3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8169840" y="3718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2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8157240" y="41562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1.9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8157240" y="46004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4.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8398800" y="50418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8182440" y="54482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1.4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8169840" y="5911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333399"/>
                </a:solidFill>
                <a:latin typeface="Arial"/>
              </a:rPr>
              <a:t>1.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58200" y="22860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303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21:58:19Z</dcterms:created>
  <dc:creator>Steve Quarrie</dc:creator>
  <dc:description/>
  <dc:language>en-US</dc:language>
  <cp:lastModifiedBy>montezuma</cp:lastModifiedBy>
  <dcterms:modified xsi:type="dcterms:W3CDTF">2008-06-11T10:36:11Z</dcterms:modified>
  <cp:revision>213</cp:revision>
  <dc:subject/>
  <dc:title>PowerPoint Presentation</dc:title>
</cp:coreProperties>
</file>